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146F-3A71-41CC-A8C0-D4B3D8E2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E058-B5C5-46DA-8C1C-6C5B8B79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9AB5-17EF-4F06-B8CA-97600EBD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AFAD-BEA4-48BA-8525-2EBD52B7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D92C-B831-4858-B008-5C9359E8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FF9D-ACE9-4BBC-A0B1-C51E3EF6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D6D6-F4B4-43B9-955F-15D4D79D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13DA-B408-4F82-BC67-08FE1F04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6C00-7235-4E5A-900B-FF58845D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C6F9-9B69-46D2-92F9-D4149F89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551B-E1DB-487C-87E4-001BCEFA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659B-A536-4422-BE1F-16E2FA87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E5E47-6987-4D5C-8E93-BDE7BC9F03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3DAE4D-B559-418C-9207-D5D2C72E3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Started on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. Rush/ Mr. Farr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make a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Macintosh HD:Users:Craig:Movies:Screenium:20110204-161056.mov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Embed a Dip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Macintosh HD:Users:Craig:Movies:Screenium:20110204-162958.mov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21:19:46Z</dcterms:created>
  <dc:creator>Craig Rush</dc:creator>
  <dc:description/>
  <dc:language>en-US</dc:language>
  <cp:lastModifiedBy>Craig Rush</cp:lastModifiedBy>
  <dcterms:modified xsi:type="dcterms:W3CDTF">2011-02-05T13:07:18Z</dcterms:modified>
  <cp:revision>2</cp:revision>
  <dc:subject/>
  <dc:title>How to Get Started on Wiki</dc:title>
</cp:coreProperties>
</file>